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D12-18CB-4BD5-8FDF-FF84C96B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5D3-996D-461E-BD86-CEC7C29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595-FB80-44F1-B3CD-6BDA3811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A1A-B116-426B-9C3B-5EF7A366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2BE-6BEA-42DC-87D7-51D0C5F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EC4-3E26-444A-B86B-46C2DF5C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8BE-4DB1-4169-91CC-8D66350C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C4C-F359-403B-ABD4-AB73F3C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519-0321-4890-9EF4-552798B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CFF-CD05-4F98-ACA3-D76C893E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06F-FD5D-45FB-B683-C9DE3C5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A20-4FF0-448C-B764-2C68FC8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5867-A23C-495D-AB66-31C214EAA5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618000" y="16286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86760" y="2133720"/>
            <a:ext cx="194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16480" y="2708280"/>
            <a:ext cx="775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Протеинур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Улога ренина у хипертенз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238000" y="6095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2040" y="2565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 пацјенти са хипертензијом реагују на терапиј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ЦЕ инхибитори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лосарта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а и онда када им је ренална циркулација нормална и када имају нормалну или чак смањену активност ренина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Протеину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dijetaplus.com/wp-content/uploads/2016/03/proteinurija.jpg"/>
          <p:cNvPicPr/>
          <p:nvPr/>
        </p:nvPicPr>
        <p:blipFill>
          <a:blip r:embed="rId1"/>
          <a:stretch/>
        </p:blipFill>
        <p:spPr>
          <a:xfrm>
            <a:off x="684360" y="3429000"/>
            <a:ext cx="770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ногим бубрежним болестима и у једном бенигном стању, пермеабилност гломерулских капилара је повећана, па се протеини налазе у урину у већем обиму него што је уобичајено у траговим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еинуру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јвише се може наћи албумин, и поремећај је опште познат ка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бумин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ина протеина у урину може бити веома велика, нарочито у нефрози када уринарни губитак протеина може бити већи од брзине којом јетра може да синтетише протеине пла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ала хипопретеинемија смањује онкотски притисак и запремина плазме се смањује, понекад до опасно ниских нивоа, док се едемска  течност нагомилава у тки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еинур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ингно стање које изазива протеинурију је недовољно разумљива промена у бубрежној хемодинамици која код неких, иначе здравих особа изазива појаву протеина у урину кад се налазе у усправном положају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тостатска албумин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ин који настаје када су ове особе у лежећем положају је без проте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Улога ренина у хипертензији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155520" y="-1096920"/>
            <a:ext cx="285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нална 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жење једне реналне артерије изазива брзо повећање секреције ренина и развој реналне хипертензије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н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Голдблато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dbl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 хипертензија се лечи одстрањивањем исхемичног бубрега или артеријске констрикције уколико она није дуго трај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нална 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и пандан овом стању ј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нална хипертенз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а настаје због атероматозних сужења једна реналне артерије, или због других абнормалности у реналној хипертенз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нална 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једностраном сужењу- Голдблатовој хипертензији са ˮједним бубрегомˮ, активност ренина у плазми је најчешће нормал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ош увек не постоји објашњење за хипертензију у оваквој ситуац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Vladimir Zivkovic</cp:lastModifiedBy>
  <dcterms:modified xsi:type="dcterms:W3CDTF">2016-04-20T06:24:47Z</dcterms:modified>
  <cp:revision>174</cp:revision>
  <dc:subject/>
  <dc:title>ИНТЕГРИСАНЕ АКАДЕМСКЕ СТУДИЈЕ ФАРМАЦИЈЕ  Г04 – Медицинска хемија и дизајн лекова 2</dc:title>
</cp:coreProperties>
</file>